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A483-1721-4949-B5CD-DD8C1EFF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BF03-CF41-424B-99B4-26B42DE8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3B40-2022-4D74-8581-D2CE8471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AF6D-7C17-4993-A9F1-B3C44725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7CB4-6715-4D85-8074-DB9A7F31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679D-4170-41F5-9CAE-93B4270C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EFC-EBAA-4D2C-A382-A59AE40A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A7D-447A-44BD-A9C3-54985031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3A63-93C0-4960-BF57-A9332BEE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F0D0-259A-4AB5-A87E-F98534B0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5837-59CD-43E6-B2E9-7C04BDA2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F1CC-D23C-461A-BC19-2E5F1A64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24A7-E7A5-4BCF-9373-5DC4B841FF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30.xml"/><Relationship Id="rId8" Type="http://schemas.openxmlformats.org/officeDocument/2006/relationships/slide" Target="slide30.xml"/><Relationship Id="rId9" Type="http://schemas.openxmlformats.org/officeDocument/2006/relationships/slide" Target="slide30.xml"/><Relationship Id="rId10" Type="http://schemas.openxmlformats.org/officeDocument/2006/relationships/slide" Target="slide30.xml"/><Relationship Id="rId11" Type="http://schemas.openxmlformats.org/officeDocument/2006/relationships/slide" Target="slide30.xml"/><Relationship Id="rId12" Type="http://schemas.openxmlformats.org/officeDocument/2006/relationships/slide" Target="slide41.xml"/><Relationship Id="rId13" Type="http://schemas.openxmlformats.org/officeDocument/2006/relationships/slide" Target="slide41.xml"/><Relationship Id="rId14" Type="http://schemas.openxmlformats.org/officeDocument/2006/relationships/slide" Target="slide41.xml"/><Relationship Id="rId15" Type="http://schemas.openxmlformats.org/officeDocument/2006/relationships/slide" Target="slide54.xml"/><Relationship Id="rId16" Type="http://schemas.openxmlformats.org/officeDocument/2006/relationships/slide" Target="slide54.xml"/><Relationship Id="rId17" Type="http://schemas.openxmlformats.org/officeDocument/2006/relationships/slide" Target="slide54.xml"/><Relationship Id="rId18" Type="http://schemas.openxmlformats.org/officeDocument/2006/relationships/slide" Target="slide54.xml"/><Relationship Id="rId19" Type="http://schemas.openxmlformats.org/officeDocument/2006/relationships/slide" Target="slide54.xml"/><Relationship Id="rId20" Type="http://schemas.openxmlformats.org/officeDocument/2006/relationships/slide" Target="slide54.xml"/><Relationship Id="rId21" Type="http://schemas.openxmlformats.org/officeDocument/2006/relationships/slide" Target="slide54.xml"/><Relationship Id="rId22" Type="http://schemas.openxmlformats.org/officeDocument/2006/relationships/slide" Target="slide54.xml"/><Relationship Id="rId23" Type="http://schemas.openxmlformats.org/officeDocument/2006/relationships/slide" Target="slide54.xml"/><Relationship Id="rId24" Type="http://schemas.openxmlformats.org/officeDocument/2006/relationships/hyperlink" Target="file:///&#30446;&#24405;.ppt" TargetMode="External"/><Relationship Id="rId25" Type="http://schemas.openxmlformats.org/officeDocument/2006/relationships/audio" Target="../media/projctor.wav"/><Relationship Id="rId2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章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通用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371600"/>
            <a:ext cx="8001000" cy="43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内容摘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Wingdings"/>
                <a:hlinkClick r:id="rId1" action="ppaction://hlinksldjump"/>
              </a:rPr>
              <a:t>1.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MFC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中数组类的使用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Wingdings"/>
                <a:hlinkClick r:id="rId4" action="ppaction://hlinksldjump"/>
              </a:rPr>
              <a:t>2.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MFC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中链表类的使用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Wingdings"/>
                <a:hlinkClick r:id="rId7" action="ppaction://hlinksldjump"/>
              </a:rPr>
              <a:t>3.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MFC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中字符串类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CString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的使用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Wingdings"/>
                <a:hlinkClick r:id="rId12" action="ppaction://hlinksldjump"/>
              </a:rPr>
              <a:t>4.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MFC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中日期和时间类的使用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5.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MFC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中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CPoint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类、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CSize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类和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CRect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类的使用方法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16400" y="6095880"/>
            <a:ext cx="607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4"/>
              </a:rPr>
              <a:t>返回目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5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295280"/>
            <a:ext cx="792504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lgDelete::OnRadioAll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GetDlgItem(IDC_EDIT_INDEX)-&gt;EnableWindow(false)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3581280"/>
            <a:ext cx="7925040" cy="2189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lgDelete::OnOK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extra validat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UpdateData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::OnO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2216160"/>
            <a:ext cx="7924680" cy="825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tec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StringArray m_strArra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276720"/>
            <a:ext cx="7924680" cy="29304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ArrayView::CArrayView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construction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m_strArray.SetSize(5,5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m_strArray[0] = "111111111111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m_strArray[2] = "333333333333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m_strArray[4] = "555555555555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91520" y="99072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调用对话框并处理数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152388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视类中添加数组对象并初始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066680"/>
            <a:ext cx="7391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编辑菜单资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菜单“编辑”下添加两个菜单项如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D_EDIT_ADD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设置添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D_EDIT_DELETE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删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47242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添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D_EDIT_AD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菜单项的消息响应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52280"/>
            <a:ext cx="8610840" cy="66348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ArrayView::OnEditAdd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lgAdd d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lg.m_nIndex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lg.m_strValue = "Defaul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lg.m_nRadio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result = dlg.DoModa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result == IDO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dlg.m_nRadio =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strArray.SetAtGrow(dlg.m_nIndex, dlg.m_str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 if (dlg.m_nRadio =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strArray.Add(dlg.m_str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strArray.InsertAt(dlg.m_nIndex, dlg.m_strValue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valida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742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380880"/>
            <a:ext cx="8839440" cy="64699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CArrayView::OnEditDelete(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CDlgDelete dl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dlg.m_nRadio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dlg.m_nIndex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int result = dlg.DoModal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if (result == IDO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if (dlg.m_nRadio==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m_strArray.RemoveAll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if(m_strArray.GetUpperBound() &lt; dlg.m_nInde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AfxMessageBox("The index is large than  array upper bound!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m_strArray.RemoveAt(dlg.m_nInde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Invalidat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22520" y="-76320"/>
            <a:ext cx="57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添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EDIT_DELE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项的消息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742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380880"/>
            <a:ext cx="8839440" cy="66268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oid CArrayView::OnDraw(CDC* pD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ArrayDoc* pDoc = GetDocum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SSERT_VALID(pDo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TEXTMETRIC textMetri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pDC-&gt;GetTextMetrics(&amp;textMetri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int fontHeight = textMetric.tmHe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int count = m_strArray.GetSiz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int displayPos 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for (int x=0; x&lt;count; ++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CString strValue = m_strArray.GetAt(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pDC-&gt;TextOut(10, displayPos, str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displayPos += fontHe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0000" y="-76320"/>
            <a:ext cx="376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重载视类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nDra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.2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链表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239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了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的链表类及其常用成员函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的链表类处理数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7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676160" y="2057040"/>
            <a:ext cx="60195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模板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ypedPtr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非模板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b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tr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tringL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的链表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Lis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BlockSize = 10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YPE GetHe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YPE GetTai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moveHe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moveTai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原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SITION AddHe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RG_TYPE newElemen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原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AddHe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List* pNewLis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原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SITION AddTai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RG_TYPE newElemen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原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AddTai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List* pNewLis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moveAl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SITION GetHeadPosi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SITION GetTailPosi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YPE GetNex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SITION&amp; rPosi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YPE GetPre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SITION&amp; rPosi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YPE Get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SITION posi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Set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SITION pos, ARG_TYPE newElemen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链表类的常用成员函数——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lis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Remove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SITION positi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SITION InsertBefo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SITION position, ARG_TYPE newElemen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SITION InsertAf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SITION position, ARG_TYPE newElemen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SITION Fin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G_TYPE searchValue, POSITION startAfter = NU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SITION FindInde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nInde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GetCou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OL IsEmpt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链表类的常用成员函数——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lis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.1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数组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239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了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的数组类及其常用成员函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的数组类处理数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7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1--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974880"/>
            <a:ext cx="883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创建一个基于单文档的应用程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Lis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编辑对话框资源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D_DIALOG_AD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STATIC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Group Box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添加结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STATIC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Static Text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姓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STATIC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Static Text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成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EDIT_NAME           Edit Bo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EDIT_SCORE          Edit Bo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OK                                 Button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确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ANCEL                       Button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取消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6840" y="4495680"/>
            <a:ext cx="70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联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EDIT_NAME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tring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str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EDIT_SCORE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n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974880"/>
            <a:ext cx="883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D_DIALOG_DELE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STATIC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Group Box      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删除结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RADIO_HE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Radio Button   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头结点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rou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选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RADIO_TAIL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Radio Button   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尾结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RADIO_NUMBER    Radio Button  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指定结点序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STATIC                     Static Text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结点序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EDIT_NUMBER       Edit Bo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OK                                  Button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确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ANCEL                        Button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取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880" y="4419720"/>
            <a:ext cx="629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联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RADIO_HEAD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     m_nRi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EDIT_NUMBER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n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50804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为对话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D_DIALOG_AD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添加响应函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2239920"/>
            <a:ext cx="6705720" cy="2189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void CDlgAdd::OnOK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// TODO: Add extra validat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UpdateData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Dialog::OnO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2438280"/>
            <a:ext cx="8076960" cy="33008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BOOL CDlgDelete::OnInitDialo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Dialog::OnInitDialog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// TODO: Add extra initializat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((CButton*)GetDlgItem(IDC_RADIO_HEAD))-&gt;SetCheck(1);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GetDlgItem(IDC_EDIT_NUMBER)-&gt;EnableWindow(false);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return TRUE;  // return TRUE unless you set the focus to a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// EXCEPTION: OCX Property Pages should return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447920"/>
            <a:ext cx="75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为对话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D_DIALOG_DELE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添加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762120"/>
            <a:ext cx="807696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void CDlgDelete::OnRadioHead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GetDlgItem(IDC_EDIT_NUMBER)-&gt;EnableWindow(fals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743200"/>
            <a:ext cx="807696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lgDelete::OnRadioTail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GetDlgItem(IDC_EDIT_NUMBER)-&gt;EnableWindow(fals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4724280"/>
            <a:ext cx="731520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lgDelete::OnRadioNumber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GetDlgItem(IDC_EDIT_NUMBER)-&gt;EnableWindow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4--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762120"/>
            <a:ext cx="8076960" cy="2189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void CDlgDelete::OnOK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// TODO: Add extra validat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UpdateData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CDialog::OnO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312408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调用对话框并处理数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视类头文件中定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tud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体添加链表类对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struct C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m_strNam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int m_nScor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在视类添加链表类对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protect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PtrList m_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9144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编辑菜单资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菜单“编辑”下添加两个菜单项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D_EDIT_ADD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结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D_EDIT_DELETE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删除结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55720" y="3124080"/>
            <a:ext cx="52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添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EDIT_AD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项的消息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152280"/>
            <a:ext cx="8458200" cy="66348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yListView::OnEditAdd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lgAdd d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lg.m_strName = "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lg.m_nScore = 0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result = dlg.DoModa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result == IDO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Create and initialize the new no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udent* m_pStudent = new CStude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Student-&gt;m_strName = dlg.m_str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Student-&gt;m_nScore = dlg.m_nSco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Add the node to the l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List.AddTail(m_pStud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Repaint the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valida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152280" y="533520"/>
            <a:ext cx="9144000" cy="133027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yListView::OnEditDelete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lgDelete d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lg.m_nRadio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result = dlg.DoModa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result == IDO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udent* m_pStuden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m_List.IsEmpty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ssageBox(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结点已经全部删除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!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dlg.m_nRadio =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Student = (CStudent*)m_List.RemoveHea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 if(dlg.m_nRadio =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Student = (CStudent*)m_List.RemoveTai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dlg.m_nNumber &lt; m_List.GetCount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SITION pos = m_List.FindIndex(dlg.m_nNumbe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SITION pos1 = po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Student = (CStudent*)m_List.GetNext(pos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List.RemoveAt(po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ssageBox(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指定结点超出范围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!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m_pStud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elete m_pStude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valida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41400"/>
            <a:ext cx="57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添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EDIT_DELE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项的消息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685800"/>
            <a:ext cx="8534160" cy="70052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yListView::OnDraw(CDC* pD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istDoc* pDoc = GetDocu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SSERT_VALID(pDo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TEXTMETRIC textMetri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pDC-&gt;GetTextMetrics(&amp;textMetri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int fontHeight = textMetric.tmHeigh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POSITION pos = m_List.GetHeadPositio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int displayPosition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while (pos != 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Student* m_pStudent = (CStudent*) m_List.GetNext(po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har s[8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wsprintf(s, " 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的成绩是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%d.",m_pStudent-&gt;m_nScor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String m_string=m_pStudent-&gt;m_strName+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pDC-&gt;TextOut(10, displayPosition, m_strin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displayPosition += fontHeigh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19240" y="41400"/>
            <a:ext cx="376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重载视类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nDra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ByteArra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DWordArra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PtrArra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UIntArra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WordArra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StringArra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22520" y="449280"/>
            <a:ext cx="477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的数组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.3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</a:rPr>
              <a:t>字符串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239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了解字符串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及其常用成员函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处理字符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7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GetLeng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获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对象包含字符串的长度（字符数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OL IsEmpt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测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对象包含的字符串是否为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Empt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对象包含的字符串为空字符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CHAR Get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nInde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获得字符串指定位置处的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CHAR operator [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nInde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获得字符串指定位置处的字符，作用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一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Set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nIndex, TCHAR c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设定字符串指定位置处的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rator LPCTST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返回指向储存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对象内的字符串指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rato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将一个新的值赋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rator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将两个字符串合并成一个新的字符串。在两个参数中必须有一个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型的，而另一个参数可以是字符、字符指针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型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rator +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在一个字符串的后面再添加一个字符串或一个字符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重载了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!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比较运算符，可用于两个字符串间的各种比较运算，比较时区分大小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mp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形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Compa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PCTSTR lpsz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比较两个字符串，如果两个字符串相等，返回值等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如果本对象大于参数字符串，返回值大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如果本对象小于参数字符串，返回值小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比较时区分大小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mpareNo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CompareNoCa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PCTSTR lpsz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mpa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类似，不同的是在忽略字符大小写的情况下比较两个字符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i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有两个重载函数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String Mi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Firs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 th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moryExcep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获取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Firs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位置开始的子串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String Mi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First, int nCoun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 th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moryExcep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获取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Firs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位置开始包含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Cou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字符的子串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CString Lef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Coun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th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moryExcep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：获取字符串左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Cou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长度的字符串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String Righ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Coun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 th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moryExcep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：获取字符串右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Cou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长度的字符串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String SpanIncludin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CTSTR lpszCharSe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th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moryExcep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：从字符串中提取包含在指定字符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szCharS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的字符的子串。它从字符串的第一个字符开始，直到遇到不属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szCharS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的字符为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String SpanExcludin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CTSTR lpszCharSe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th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moryExcep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：从字符串中提取不包含在指定字符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szCharS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的字符的子串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keU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字符串中所有的字符全部转化成大写形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ke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字符串中所有的字符全部转化成小写形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keRe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字符串倒置，即将字符的顺序颠倒，第一个字符变成最后一个字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Replac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CHAR chOld, TCHAR chNew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Replac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CTSTR lpszOld, LPCTSTR lpszNew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：将字符串中的字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Ol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或字符子串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szOl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替换成新的字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Ne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或字符串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szNe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.   void CString::TrimLef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CHAR chTarge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CString::TrimLef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CTSTR lpszTargets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：删除字符串左边开头的字符或字符子串，参数缺省时删除左边的空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CString::TrimRigh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CHAR chTarge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CString::TrimRigh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CTSTR lpszTargets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：删除字符串右边开头的字符或字符子串，参数缺省时删除右边的空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原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Fi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CHAR ch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Fi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CTSTR lpszSub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Fi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CHAR ch, int nStar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Fi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CTSTR pstr, int nStar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：在字符串中查找指定的字符或字符串。参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要查找的字符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szSu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要查找的字符子串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Star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定查找的起始位置，如缺省为从最左边开始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s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向欲查找子串的指针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verseF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原型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ReverseFi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CHAR ch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：返回字符串中最后一个和指定的字符匹配的字符的下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indOne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原型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FindOneO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CTSTR lpszCharSe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：在字符串中查找第一个和指定的字符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szCharS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任何一个字符匹配的字符的位置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1--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609480"/>
            <a:ext cx="883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连结字符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m_str1="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工作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m_str2="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正常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m_str3=m_str1+m_str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执行第三行后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_str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应该是“工作正常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384280"/>
            <a:ext cx="883908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比较字符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m_str1="a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m_str2="b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int result=m_str1.Compare(m_str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if(result=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AfxMessageBox("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两者相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else if(result&gt;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AfxMessageBox("m_str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大于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m_str2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AfxMessageBox("m_str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小于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m_str2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行结果在信息框中显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st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str2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两个字符串比较大小时从第一个字母开始，按照对应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比较。如果第一个字母相同，再比较下一个字母。依次往下直到比较出大小为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1371600"/>
            <a:ext cx="876312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提取字符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m_str1="abcde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m_str2=m_str1.Left(1)+m_str1.Mid(2,1)+m_str1.Righ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fxMessageBox(m_str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运行结果在信息框中显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e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1.Lef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得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左边的一个字符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1.Mi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取得从索引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开始的一个字符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1.Righ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得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右边的一个字符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914400"/>
            <a:ext cx="7848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查找字符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m_str1="abcdef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m_str2="deq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int index=m_str1.Find(m_str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if(index&gt;=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char s[1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wsprintf(s,"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匹配字符的下标为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%d",ind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MessageBox(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MessageBox("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没有匹配字符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运行结果在信息框中显示“没有匹配字符”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1.Fi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查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q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由于未找到返回 –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Ad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RG_TYPE  newElemen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 th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moryExcep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YPE&amp;  Element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Index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FreeExtr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YPE Get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Index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GetSiz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GetUpperBou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1)void Insert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Index, ARG_TYPE newElement, int nCount = 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moryExcep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2)void Insert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StartIndex, CArray* pNewArray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moryExcep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RemoveAl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Set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Index, ARG_TYPE newElemen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SetAtG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Index, ARG_TYPE newElemen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 th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moryExcep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SetSiz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NewSize, int nGrowBy = -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 th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moryExcep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数组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914400"/>
            <a:ext cx="78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变换字符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m_str="   ABCabc   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m_str.TrimLef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m_str.TrimRigh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m_str.MakeUpper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MessageBox(m_st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运行结果在信息框中显示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ABC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.TrimLef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）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.TrimRigh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）分别去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左边和右边的空格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.MakeUppe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）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所有字母转换成大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.4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日期和时间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239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处理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处理时间间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7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构造和初始化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类对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类有下列构造函数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 CTime&amp; timeSrc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ime_t time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Year, int nMonth, int nDay, int nHour, int nMin, int nSec, int nDST = -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ORD wDosDate, WORD wDosTime, int nDST = -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 SYSTEMTIME&amp; sysTime, int nDST = -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 FILETIME&amp; fileTime, int nDST = -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：以不同的方式构造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象。可以用一个已经存在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象或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ime_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ime.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被定义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on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类型变量来构造和初始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象，也可以用年、月、日、小时、分、秒来构造和初始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象，还可以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YSTEM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ILE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结构来构造和初始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象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YSTEM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ILE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结构定义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时间值的提取函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GetCurrent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   获取系统当前时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原型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tatic CTime PASCAL GetCurrent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Get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  由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象返回一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time_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变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原型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time_t Get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）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GetYea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   获取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象代表的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原型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t GetYea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）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以下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至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函数原型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GetYea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类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GetMont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获取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象代表的月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GetDa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 获取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象代表的日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GetHou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 获取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象代表的小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GetMinut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获取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象代表的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GetSecon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 获取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象代表的秒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GetDayOfWee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 获取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象代表的星期几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表周日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表周一、等等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格式化时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成员函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 将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象中的时间信息转化为一个格式化的字符串。其函数原型为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String Forma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LPCTSTR pForma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String Forma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UINT nFormatID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Forma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格式字符串，类似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rint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的格式字符串，格式字符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周的英文缩写形式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周的英文全名形式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月的英文缩写形式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月的英文全名形式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完整的日期和时间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十进制形式的日期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1-3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小时制的小时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0-2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小时制的小时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0-1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j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十进制表示的一年中的第几天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01-36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月的十进制表示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1-1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十进制表示的分钟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0-5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小时制的上下午标示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M/P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十进制表示的秒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0-5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U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一年中的第几个星期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0-5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，星期日是一周的第一天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W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一年中的第几个星期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0-5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，星期一是一周的第一天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w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十进制表示的星期几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-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十进制表示的年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nFormatID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格式字符串资源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号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重载运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perator =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 赋予新的时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perator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 增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perator 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 减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perator +=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象加一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perator -=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象减一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perator ==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 比较两个绝对时间是否相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perator !=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 比较两个绝对时间是否不相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perator &gt;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 比较两个绝对时间，是否前一个大于后一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perator &lt;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 比较两个绝对时间，是否前一个小于后一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perator &gt;=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比较两个绝对时间，是否前一个大于等于后一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perator &lt;=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比较两个绝对时间，是否前一个小于等于后一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获取当前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Time m_time=CTime::GetCurrentTim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String s=m_time.Format("%A,%B,%d,%Y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String m_strTime="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当前时间是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"+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MessageBox(m_str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运行结果在信息框中显示“当前时间是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unday,February,4,2001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程序第一行获取系统当前时间，并赋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_ti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第二行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_ti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建一个字符串对象，将该字符串赋给变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格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%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周的英文全名形式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%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月的英文全名形式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%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十进制形式的日期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1-3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%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 十进制表示的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例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由年、月、日得到对应的周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Time m_time(2001,2,5,12,0,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nt weekday=m_time.GetDayOfWeek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switch(week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日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一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4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三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5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四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6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五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7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六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defau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运行结果在信息框中显示“今天是周一”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_time.GetDayOfWee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获取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_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表的周几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表周日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表周一等等）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例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由年、月、日得到对应的周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Time m_time(2001,2,5,12,0,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nt weekday=m_time.GetDayOfWeek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switch(week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日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一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4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三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5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四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6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五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7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六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defau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运行结果在信息框中显示“今天是周一”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_time.GetDayOfWee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获取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_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表的周几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表周日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表周一等等）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例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构造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有下列构造函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）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nst CTimeSpan&amp; timeSpanSr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me_t tim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ONG lDays, int nHours, int nMins, int nSec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meSpanSr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一个已存在的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象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一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me_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型的时间值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Days, nHours, nMins, nSec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别为天数、小时数、分数和秒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1--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609480"/>
            <a:ext cx="8839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创建一个基于单文档的应用程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Arr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编辑对话框资源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D_DIALOG_AD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STATIC                 Group Box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设置添加操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RADIO_SET         Radio Button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设置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rou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选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RADIO_ADD        Radio Button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添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RADIO_INSER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Radio Butt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插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STATIC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Static Text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数组元素下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EDIT_INDEX         Edit Bo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STATIC                   Static Text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设置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EDIT_VALUE        Edit Bo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OK                               Button             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确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ANCEL                     Button             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取消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600" y="4952880"/>
            <a:ext cx="70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联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RADIO_SET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nRi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EDIT_INDEX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n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EDIT_VALUE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tring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str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时间值的提取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Day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   获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对象中包含的完整的天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Hour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   获得当天的小时数，值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2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TotalHour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   获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对象中包含的完整的小时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Minut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   获得当前小时包含的分数，值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5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TotalMinut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  获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对象中包含的完整的分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Second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   获得当前分钟包含的秒数，值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5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TotalSecond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  获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对象中包含的完整的秒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格式化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） 将一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象转换成格式字符串。使用方式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似，格式化字符包括以下几个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%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 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总天数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%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   不足整天的小时数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%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   不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时的分数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%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   不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钟的秒数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%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   百分号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重载运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也重载了运算符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=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=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=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“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=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=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用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象的赋值、加减运算及两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象的比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例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例：构造一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象，并获取其中的完整天数、小时数、分数和秒数，将获得的信息在信息框中显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CTimeSpan m_timespan(3,4,5,6);  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 //  3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天，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小时，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分，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LONG m_totalDays=m_timespan.GetDays();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获得完整天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LONG m_totalHours=m_timespan.GetTotalHours(); 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获得完整小时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LONG m_totalMinutes=m_timespan.GetTotalMinutes();   //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获得完整分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LONG m_totalSeconds=m_timespan.GetTotalSeconds();   //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获得完整秒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char s1[8], s2[8], s3[8], s4[8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wsprintf(s1,"%ld",m_totalDay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wsprintf(s2,"%ld",m_totalHou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wsprintf(s3,"%ld",m_totalMinute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wsprintf(s4,"%ld",m_totalSecond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CString m_str = "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此时间范围包含：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\n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完整天数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:"+CString(s1)+"\n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完整小时数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:"+CString(s2)+"\n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完整分数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:"+CString(s3)+"\n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完整秒数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:"+CString(s4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MessageBox(m_st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运行结果在信息框中显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行，其中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内容为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内容为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6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*24+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内容为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565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6*60+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内容为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73906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565*60+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.5   CPoin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Siz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239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利用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别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点、矩形和大小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7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Poi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封装，凡是能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的地方都可以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代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屏幕上的一个二维点，其定义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typedef struct tagPOI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LONG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LONG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} POI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是点的横坐标和纵坐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供了一些重载运算符，使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操作更加方便。如运算符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于两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或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与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的加减运算，运算符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“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于比较两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是否相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Siz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封装，凡是能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的地方都可以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代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一个矩形的长度和宽度，其定义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typedef struct tagSIZ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LONG c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LONG c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} 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是长度和宽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似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提供了一些重载运算符。如运算符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用于两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或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与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的加减运算，运算符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“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于比较两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是否相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包含两个整数类型的成员变量，他们可以进行相互操作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的操作可以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为参数。同样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的操作也可以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为参数。如可以用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构造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，也可以用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构造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，允许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和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进行加减运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Rec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封装，凡是能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结构的地方都可以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代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示一个矩形的位置和尺寸，其定义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typedef struct tagRECT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LONG lef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LONG t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LONG righ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LONG botto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} REC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其中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别表示矩形左上角顶点的横坐标和纵坐标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otto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别表示矩形右下角顶点的横坐标和纵坐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由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提供了一些成员函数和重载运算符，使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操作更加方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构造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构造函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l, int t, int r, int 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 RECT&amp; srcRec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PCRECT lpSrcRec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 point, SIZE siz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 topLeft, POINT bottomRigh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分别以不同的方式构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，参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指定矩形的左边、上边、右边和底边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r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的引用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pSr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个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的指针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矩形的左上角顶点的坐标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矩形的长度和宽度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pLef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矩形的左上角顶点的坐标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ttomRigh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矩形的右下角顶点的坐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重载运算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重载的运算符包括：赋值运算符、比较运算符、算术运算符、交并运算符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赋值运算符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实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象间的拷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比较运算符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=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!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比较两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象是否相等（四个成员都相等时，两个对象才相等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算术运算符包括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他们的第一个操作数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象，第二个操作数可以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当第二个操作数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运算结果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矩形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轴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轴的正方向移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定的大小。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运算结果则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矩形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轴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轴的负方向移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定的大小。当第二个操作数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运算结果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矩形的左上角顶点向左上方向移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前两个成员指定的大小，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矩形的右下角顶点向右下方向移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两个成员指定的大小。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运算结果则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矩形的左上角顶点向右下方向移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前两个成员指定的大小，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矩形的右下角顶点向左上方向移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两个成员指定的大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运算符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amp;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amp;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得到两个矩形的交集（两个矩形的公共部分），运算符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|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|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得到两个矩形并集（包含两个矩形的最小矩形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1371600"/>
            <a:ext cx="8839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2) IDD_DIALOG_AD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STATIC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Group Box     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设置添加操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RADIO_ALL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Radio Button  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全部元素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rou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选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RADIO_ELEMENT    Radio Button  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指定元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STATIC                        Static Text      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数组下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EDIT_VALUE             Edit Bo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OK                                     Button            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确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ANCEL                           Button            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取消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4267080"/>
            <a:ext cx="597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联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RADIO_ALL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nRi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EDIT_VALUE           int        m_n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他常用成员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d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 ：得到矩形的宽度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：得到矩形的高度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：得到矩形的大小（高度和宽度）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pLef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：得到矩形左上角顶点坐标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ttomRigh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 ：得到矩形右下角顶点坐标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tIn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：判断一个点是否在矩形内，如是返回真，否则返回假。原形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OL PtIn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sRectEmpt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：判断矩形是否为空（高度和宽度都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sRectNu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：判断矩形是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左上角和右下角坐标都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：设置矩形四个成员变量的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规格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规格化的矩形是指他的高度和宽度都是正值，即矩形的右边大于矩形的左边，矩形的底边大于矩形的上边。矩形的规格化函数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ormalize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，该函数比较矩形的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tt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如果不满足规格化要求，则对换两个值。上面介绍的大部分运算符和成员函数，只有规格化的矩形才能得到正确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创建应用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利用应用向导创建一个基于单文档的应用程序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ectTe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编辑对话框资源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DD_DIALOG_P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STATIC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Group Box            Captio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：选择运算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RADIO_ADD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Radio Butto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Captio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：加法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Group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：选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RADIO_SUB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Radio Butto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Captio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：减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STATIC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Group Box            Captio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：输入点的坐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STATIC                  Static Text           Captio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STATIC                  Static Text           Captio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EDIT_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             Edit Bo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EDIT_Y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            Edit Bo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OK                               Button                   Captio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ANCEL                    Button                   Captio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n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例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DD_DIALOG_R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STATIC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Group Box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选择运算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RADIO_ADD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Radio Button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加法（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），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Group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选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RADIO_SUB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  Radio Button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减法（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RADIO_INTERSEC   Radio Button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交集（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&amp;&amp;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RADIO_ UNION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  Radio Button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并集（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STATIC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Group Box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输入矩形数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STATIC       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 Static Text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Left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STATIC       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 Static Text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Top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STATIC       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 Static Text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STATIC       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 Static Text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Bottom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EDIT_LEFT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 Edit Box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EDIT_TOP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 Edit Box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EDIT_RIGHT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 Edit Box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EDIT_BOTTOM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 Edit Box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OK                                     Button     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ANCEL                          Button      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Can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例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添加控件关联变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DD_DIALOG_P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EDIT_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nt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_n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EDIT_Y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nt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_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RADIO_ADD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nt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_nRa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DD_DIALOG_R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EDIT_LEFT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nt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_n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EDIT_TOP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nt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_n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EDIT_RIGHT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nt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_n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EDIT_BOTTO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nt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_nBot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RADIO_HESD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nt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m_nRidio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OK                          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utton    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ANCEL               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utton     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n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例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为对话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DD_DIALOG_POI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添加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例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828800"/>
            <a:ext cx="7925040" cy="40417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BOOL CDlgPoint::OnInitDialo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Dialog::OnInitDialog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// TODO: Add extra initializat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nRadio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UpdateData(fals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return TRUE;  // return TRUE unless you set the focus to a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// EXCEPTION: OCX Property Pages should return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为对话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DD_DIALOG_REC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添加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例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1828800"/>
            <a:ext cx="7925040" cy="40417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BOOL CDlgRect::OnInitDialo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Dialog::OnInitDialog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// TODO: Add extra initializat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nRadio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UpdateData(fals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return TRUE;  // return TRUE unless you set the focus to a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// EXCEPTION: OCX Property Pages should return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调用对话框并处理数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在视类头文件中定义成员变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Rect m_OldR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Rect m_NewR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Rect m_AddR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Point m_Poi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并在构造函数中初始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例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3886200"/>
            <a:ext cx="6629400" cy="25599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RectTestView::CRectTestView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m_OldRect.SetRect(100, 100, 300, 2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m_NewRect.SetRect(0, 0, 0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m_AddRect.SetRect(0, 0, 0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m_Point = CPoint(0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编辑菜单资源 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菜单最后添加一个菜单“矩形操作”，并加入两个菜单项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号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Ca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_RECT_POINT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矩形与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_RECT_RECT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矩形与矩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添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D_RECT_POIN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菜单项的消息响应函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例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2286000"/>
            <a:ext cx="7620120" cy="44121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RectTestView::OnRectPoin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 dlg.DoModal()==IDO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oint = CPoint(dlg.m_nX, dlg.m_n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dlg.m_nRadio =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ewRect = m_OldRect + m_Poi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ewRect = m_OldRect - m_Poi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OnUpdate(NULL,0,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添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D_RECT_REC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菜单项的消息响应函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380880"/>
            <a:ext cx="8610480" cy="9582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RectTestView::OnRectRec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lgRect d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 dlg.DoModal()==IDO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m_AddRect = CRect(dlg.m_nLeft, dlg.m_nTop, dlg.m_nRight, dlg.m_nBotto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dlg.m_nRadio =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ewRect = m_OldRect + m_AddR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 if(dlg.m_nRadio =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ewRect = m_OldR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ewRect -= m_AddR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 if(dlg.m_nRadio ==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ewRect = m_OldRect &amp; m_AddR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ewRect = m_OldRect | m_AddR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valida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9144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为对话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D_DIALOG_AD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响应函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447920"/>
            <a:ext cx="7925040" cy="29304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CDlgAdd::OnInitDialo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::OnInitDialog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extra initializat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((CButton*)GetDlgItem(IDC_RADIO_SET))-&gt;SetCheck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TRUE;  // return TRUE unless you set the focus to a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EXCEPTION: OCX Property Pages should return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4724280"/>
            <a:ext cx="723924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lgAdd::OnRadioSe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GetDlgItem(IDC_EDIT_INDEX)-&gt;EnableWindow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视中显示运算结果，重载视类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Dra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）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762120"/>
            <a:ext cx="8610480" cy="225637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RectTestView::OnDraw(CDC* pD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RectTestDoc* pDoc = GetDocu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SSERT_VALID(pDo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draw code for native data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Rectangle(m_OldRec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Rectangle(m_AddRec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Rectangle(m_NewRec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har temp[1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strOldRect = "Old rect is: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OldRect.left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OldRec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OldRect += " 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OldRect.top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OldRec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OldRect += " 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OldRect.right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OldRec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OldRect += " 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OldRect.bottom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OldRec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strAddRect = "Add rect is: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AddRect.left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AddRec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AddRect += " 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AddRect.top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AddRec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AddRect += " 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AddRect.right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AddRec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AddRect += " 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AddRect.bottom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AddRec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strNewRect = "New rect is: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NewRect.left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NewRec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NewRect += " 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NewRect.top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NewRec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NewRect += " 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NewRect.right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NewRec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NewRect += " 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NewRect.bottom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NewRec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strPoint = "Point is: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Point.x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Poin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Point += " 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Point.y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Poin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500,30 ,strOldRec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500,50 ,strAddRec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500,70 ,strNewRec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500,90 ,strPoi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7620120" y="624852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7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33520"/>
            <a:ext cx="792504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lgAdd::OnRadioAdd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GetDlgItem(IDC_EDIT_INDEX)-&gt;EnableWindow(fals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2514600"/>
            <a:ext cx="792504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lgAdd::OnRadioInser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GetDlgItem(IDC_EDIT_INDEX)-&gt;EnableWindow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4495680"/>
            <a:ext cx="7086600" cy="2189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lgAdd::OnOK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extra validat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UpdateData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::OnO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990720"/>
            <a:ext cx="7924680" cy="33008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CDlgDelete::OnInitDialo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::OnInitDialog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extra initializat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((CButton*)GetDlgItem(IDC_RADIO_ALL))-&gt;SetCheck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GetDlgItem(IDC_EDIT_INDEX)-&gt;EnableWindow(false)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TRUE;  // return TRUE unless you set the focus to a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EXCEPTION: OCX Property Pages should return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4495680"/>
            <a:ext cx="716292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lgDelete::OnRadioElemen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GetDlgItem(IDC_EDIT_INDEX)-&gt;EnableWindow(true);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49920" y="533520"/>
            <a:ext cx="58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为对话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D_DIALOG_DELE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添加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8:31:54Z</dcterms:created>
  <dc:creator>YangGuoxing</dc:creator>
  <dc:description/>
  <dc:language>en-US</dc:language>
  <cp:lastModifiedBy>YangGuoxing</cp:lastModifiedBy>
  <dcterms:modified xsi:type="dcterms:W3CDTF">2001-08-27T01:21:48Z</dcterms:modified>
  <cp:revision>214</cp:revision>
  <dc:subject/>
  <dc:title>第四章   菜单、快捷键和控制条 </dc:title>
</cp:coreProperties>
</file>